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3429000"/>
            <a:ext cx="64008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95280" y="4623120"/>
            <a:ext cx="64008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342900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5240" y="342900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62312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5240" y="462312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3429000"/>
            <a:ext cx="20606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9240" y="3429000"/>
            <a:ext cx="20606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23560" y="3429000"/>
            <a:ext cx="20606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95280" y="4623120"/>
            <a:ext cx="20606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9240" y="4623120"/>
            <a:ext cx="20606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23560" y="4623120"/>
            <a:ext cx="20606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3429000"/>
            <a:ext cx="312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5240" y="3429000"/>
            <a:ext cx="312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5280" y="342900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5240" y="3429000"/>
            <a:ext cx="312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5280" y="462312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5280" y="3429000"/>
            <a:ext cx="312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5240" y="342900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5240" y="462312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5280" y="342900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5240" y="342900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5280" y="4623120"/>
            <a:ext cx="64008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3429000"/>
            <a:ext cx="64008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95280" y="4623120"/>
            <a:ext cx="64008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342900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5240" y="342900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5280" y="462312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5240" y="462312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3429000"/>
            <a:ext cx="20606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59240" y="3429000"/>
            <a:ext cx="20606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23560" y="3429000"/>
            <a:ext cx="20606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95280" y="4623120"/>
            <a:ext cx="20606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59240" y="4623120"/>
            <a:ext cx="20606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23560" y="4623120"/>
            <a:ext cx="20606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3429000"/>
            <a:ext cx="312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5240" y="3429000"/>
            <a:ext cx="312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342900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5240" y="3429000"/>
            <a:ext cx="312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95280" y="462312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3429000"/>
            <a:ext cx="312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5240" y="342900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5240" y="462312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342900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5240" y="3429000"/>
            <a:ext cx="3123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623120"/>
            <a:ext cx="64008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gradFill rotWithShape="0">
            <a:gsLst>
              <a:gs pos="0">
                <a:srgbClr val="f6eecb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5532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800" spc="-1" strike="noStrike">
                <a:solidFill>
                  <a:srgbClr val="667bb4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7bb4"/>
                </a:solidFill>
                <a:latin typeface="Garamond"/>
              </a:rPr>
              <a:t>&lt;date/time&gt;</a:t>
            </a:r>
            <a:r>
              <a:rPr b="1" lang="de-DE" sz="1800" spc="-1" strike="noStrike">
                <a:solidFill>
                  <a:srgbClr val="667bb4"/>
                </a:solidFill>
                <a:latin typeface="Garamond"/>
              </a:rPr>
              <a:t>November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85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667b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7bb4"/>
                </a:solidFill>
                <a:latin typeface="Times New Roman"/>
              </a:rPr>
              <a:t>&lt;footer&gt;</a:t>
            </a:r>
            <a:r>
              <a:rPr b="0" lang="en-GB" sz="1800" spc="-1" strike="noStrike">
                <a:solidFill>
                  <a:srgbClr val="667bb4"/>
                </a:solidFill>
                <a:latin typeface="Times New Roman"/>
              </a:rPr>
              <a:t>http://meta-e.uibk.ac.at/</a:t>
            </a:r>
            <a:r>
              <a:rPr b="0" lang="de-DE" sz="1800" spc="-1" strike="noStrike">
                <a:solidFill>
                  <a:srgbClr val="667bb4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667bb4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667bb4"/>
                </a:solidFill>
                <a:latin typeface="Times New Roman"/>
              </a:rPr>
              <a:t>             Simon Tanner, H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304920"/>
            <a:ext cx="731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67bb4"/>
                </a:solidFill>
                <a:latin typeface="Times New Roman"/>
              </a:rPr>
              <a:t>METAe</a:t>
            </a:r>
            <a:r>
              <a:rPr b="0" lang="de-DE" sz="2400" spc="-1" strike="noStrike">
                <a:solidFill>
                  <a:srgbClr val="667bb4"/>
                </a:solidFill>
                <a:latin typeface="Times New Roman"/>
              </a:rPr>
              <a:t>          THE METADATA ENGIN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304920"/>
            <a:ext cx="762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Meta-e-large" descr=""/>
          <p:cNvPicPr/>
          <p:nvPr/>
        </p:nvPicPr>
        <p:blipFill>
          <a:blip r:embed="rId3"/>
          <a:stretch/>
        </p:blipFill>
        <p:spPr>
          <a:xfrm>
            <a:off x="469800" y="127080"/>
            <a:ext cx="77004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04920"/>
            <a:ext cx="762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eta-e-banner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7620120" cy="2108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7bb4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667bb4"/>
              </a:solidFill>
              <a:latin typeface="Garamond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e6ca52"/>
                </a:solidFill>
                <a:latin typeface="Arial"/>
              </a:rPr>
              <a:t>European Metadata Initiatives: </a:t>
            </a:r>
            <a:endParaRPr b="1" lang="en-US" sz="3200" spc="-1" strike="noStrike">
              <a:solidFill>
                <a:srgbClr val="667bb4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e6ca52"/>
                </a:solidFill>
                <a:latin typeface="Arial"/>
              </a:rPr>
              <a:t>The METAe Metadata Engine</a:t>
            </a:r>
            <a:endParaRPr b="1" lang="en-US" sz="3200" spc="-1" strike="noStrike">
              <a:solidFill>
                <a:srgbClr val="667bb4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85" name=""/>
          <p:cNvSpPr/>
          <p:nvPr/>
        </p:nvSpPr>
        <p:spPr>
          <a:xfrm>
            <a:off x="1564920" y="4826160"/>
            <a:ext cx="603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6ca52"/>
                </a:solidFill>
                <a:latin typeface="Arial"/>
              </a:rPr>
              <a:t>Simon T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6ca52"/>
                </a:solidFill>
                <a:latin typeface="Arial"/>
              </a:rPr>
              <a:t>Higher Education Digitisation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6ca52"/>
                </a:solidFill>
                <a:latin typeface="Arial"/>
              </a:rPr>
              <a:t>http://heds.herts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HEDS%20logo_inner%20shadow" descr=""/>
          <p:cNvPicPr/>
          <p:nvPr/>
        </p:nvPicPr>
        <p:blipFill>
          <a:blip r:embed="rId2"/>
          <a:stretch/>
        </p:blipFill>
        <p:spPr>
          <a:xfrm>
            <a:off x="2286000" y="1295280"/>
            <a:ext cx="4657680" cy="12891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0636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rticipants: co-ordinator &amp; technical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88280" indent="-188280">
              <a:lnSpc>
                <a:spcPct val="125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-ordinator: Leopold-Franzens-Universität,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Innsbruck (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5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stitut für Angewandte Informatik, University of Linz (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5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itcom Neue Medien GmbH (G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5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CS Compact Computer Systeme (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5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ipartimento di Sistemi e Informatica, University of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Florence (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5000"/>
              </a:lnSpc>
              <a:spcBef>
                <a:spcPts val="575"/>
              </a:spcBef>
              <a:buSzPct val="1028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cuola Normale Superiore, Centro di Ricerche Informatiche per i Beni Culturali (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0636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rticipants: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library &amp; research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360" indent="-198360">
              <a:lnSpc>
                <a:spcPct val="125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Universidad de Alicante (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8360" indent="-198360">
              <a:lnSpc>
                <a:spcPct val="125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Friedrich-Ebert-Stiftung (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8360" indent="-198360">
              <a:lnSpc>
                <a:spcPct val="125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nell University Library (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8360" indent="-198360">
              <a:lnSpc>
                <a:spcPct val="125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ibliothèque nationale de France (F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8360" indent="-198360">
              <a:lnSpc>
                <a:spcPct val="125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National Library of Norway (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8360" indent="-198360">
              <a:lnSpc>
                <a:spcPct val="125000"/>
              </a:lnSpc>
              <a:spcBef>
                <a:spcPts val="575"/>
              </a:spcBef>
              <a:buSzPct val="1028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iblioteca Statale A. Baldini (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8360" indent="-198360">
              <a:lnSpc>
                <a:spcPct val="125000"/>
              </a:lnSpc>
              <a:spcBef>
                <a:spcPts val="575"/>
              </a:spcBef>
              <a:buSzPct val="1028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Karl-Franzens-Universität Graz, (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8360" indent="-198360">
              <a:lnSpc>
                <a:spcPct val="125000"/>
              </a:lnSpc>
              <a:spcBef>
                <a:spcPts val="575"/>
              </a:spcBef>
              <a:buSzPct val="1028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igher Education Digitisation Service HEDS (U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of </a:t>
            </a:r>
            <a:r>
              <a:rPr b="0" lang="de-DE" sz="2400" spc="-1" strike="noStrike">
                <a:solidFill>
                  <a:srgbClr val="667bb4"/>
                </a:solidFill>
                <a:latin typeface="Arial"/>
              </a:rPr>
              <a:t>layout and document analysi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s a key technology in future digitisation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elopment of </a:t>
            </a:r>
            <a:r>
              <a:rPr b="0" lang="de-DE" sz="2400" spc="-1" strike="noStrike">
                <a:solidFill>
                  <a:srgbClr val="667bb4"/>
                </a:solidFill>
                <a:latin typeface="Arial"/>
              </a:rPr>
              <a:t>capturing and conversion tool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r the automated recording and generation of administrative and descriptive meta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elopment of an </a:t>
            </a:r>
            <a:r>
              <a:rPr b="0" lang="de-DE" sz="2400" spc="-1" strike="noStrike">
                <a:solidFill>
                  <a:srgbClr val="667bb4"/>
                </a:solidFill>
                <a:latin typeface="Arial"/>
              </a:rPr>
              <a:t>omnifont OCR-engi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pecialised in processing old European typefaces of the 19th century („Fraktur“, Gothic fo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aluation of </a:t>
            </a:r>
            <a:r>
              <a:rPr b="0" lang="de-DE" sz="2400" spc="-1" strike="noStrike">
                <a:solidFill>
                  <a:srgbClr val="667bb4"/>
                </a:solidFill>
                <a:latin typeface="Arial"/>
              </a:rPr>
              <a:t>digital preservation standard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i.e. XML, EAD, TEI or ISO 120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elopment of an </a:t>
            </a:r>
            <a:r>
              <a:rPr b="0" lang="de-DE" sz="2400" spc="-1" strike="noStrike">
                <a:solidFill>
                  <a:srgbClr val="667bb4"/>
                </a:solidFill>
                <a:latin typeface="Arial"/>
              </a:rPr>
              <a:t>XML search engi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r tagged full texts and im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scription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Meta-e-large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152520" cy="3531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98400" y="1905120"/>
            <a:ext cx="7607520" cy="398880"/>
          </a:xfrm>
          <a:prstGeom prst="rect">
            <a:avLst/>
          </a:prstGeom>
          <a:gradFill rotWithShape="0">
            <a:gsLst>
              <a:gs pos="0">
                <a:srgbClr val="f3e8b6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7bb4"/>
                </a:solidFill>
                <a:latin typeface="Arial"/>
              </a:rPr>
              <a:t>1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 module for scanning and importing existing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286000"/>
            <a:ext cx="7618320" cy="398880"/>
          </a:xfrm>
          <a:prstGeom prst="rect">
            <a:avLst/>
          </a:prstGeom>
          <a:gradFill rotWithShape="0">
            <a:gsLst>
              <a:gs pos="0">
                <a:srgbClr val="f3e8b6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7bb4"/>
                </a:solidFill>
                <a:latin typeface="Arial"/>
              </a:rPr>
              <a:t>2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CR-engine specialised in typefaces of the 19th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666880"/>
            <a:ext cx="7618320" cy="398880"/>
          </a:xfrm>
          <a:prstGeom prst="rect">
            <a:avLst/>
          </a:prstGeom>
          <a:gradFill rotWithShape="0">
            <a:gsLst>
              <a:gs pos="0">
                <a:srgbClr val="f3e8b6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7bb4"/>
                </a:solidFill>
                <a:latin typeface="Arial"/>
              </a:rPr>
              <a:t>3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cument analysis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3048120"/>
            <a:ext cx="7618320" cy="398880"/>
          </a:xfrm>
          <a:prstGeom prst="rect">
            <a:avLst/>
          </a:prstGeom>
          <a:gradFill rotWithShape="0">
            <a:gsLst>
              <a:gs pos="0">
                <a:srgbClr val="f3e8b6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7bb4"/>
                </a:solidFill>
                <a:latin typeface="Arial"/>
              </a:rPr>
              <a:t>4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ge layout analysis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127400"/>
            <a:ext cx="7618320" cy="703800"/>
          </a:xfrm>
          <a:prstGeom prst="rect">
            <a:avLst/>
          </a:prstGeom>
          <a:gradFill rotWithShape="0">
            <a:gsLst>
              <a:gs pos="0">
                <a:srgbClr val="f3e8b6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7bb4"/>
                </a:solidFill>
                <a:latin typeface="Arial"/>
              </a:rPr>
              <a:t>6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version module assembling an XML document containing all recognised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3200" y="4788000"/>
            <a:ext cx="7618320" cy="703800"/>
          </a:xfrm>
          <a:prstGeom prst="rect">
            <a:avLst/>
          </a:prstGeom>
          <a:gradFill rotWithShape="0">
            <a:gsLst>
              <a:gs pos="0">
                <a:srgbClr val="f3e8b6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7bb4"/>
                </a:solidFill>
                <a:latin typeface="Arial"/>
              </a:rPr>
              <a:t>7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ort module for the XML enriched document and the scanned im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429000"/>
            <a:ext cx="7620120" cy="703800"/>
          </a:xfrm>
          <a:prstGeom prst="rect">
            <a:avLst/>
          </a:prstGeom>
          <a:gradFill rotWithShape="0">
            <a:gsLst>
              <a:gs pos="0">
                <a:srgbClr val="f3e8b6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7bb4"/>
                </a:solidFill>
                <a:latin typeface="Arial"/>
              </a:rPr>
              <a:t>5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ules and controlled vocabulary for automated recogni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workflow1%20copy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978440" cy="5064120"/>
          </a:xfrm>
          <a:prstGeom prst="rect">
            <a:avLst/>
          </a:prstGeom>
          <a:ln w="0">
            <a:noFill/>
          </a:ln>
        </p:spPr>
      </p:pic>
      <p:pic>
        <p:nvPicPr>
          <p:cNvPr id="136" name="titelklein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167000" cy="369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702320" y="1935000"/>
            <a:ext cx="4003560" cy="164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76640" y="1996920"/>
            <a:ext cx="384480" cy="182880"/>
          </a:xfrm>
          <a:prstGeom prst="rect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58040" y="1996920"/>
            <a:ext cx="274680" cy="120960"/>
          </a:xfrm>
          <a:prstGeom prst="rect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6560" y="2239920"/>
            <a:ext cx="2522520" cy="487440"/>
          </a:xfrm>
          <a:prstGeom prst="rect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9240" y="2911320"/>
            <a:ext cx="493560" cy="182880"/>
          </a:xfrm>
          <a:prstGeom prst="rect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57760" y="1996920"/>
            <a:ext cx="218880" cy="1828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32720" y="1996920"/>
            <a:ext cx="218880" cy="1209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73840" y="1996920"/>
            <a:ext cx="766800" cy="1209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41880" y="3643200"/>
            <a:ext cx="1150920" cy="1825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70560" y="3825720"/>
            <a:ext cx="493560" cy="122400"/>
          </a:xfrm>
          <a:prstGeom prst="rect">
            <a:avLst/>
          </a:prstGeom>
          <a:noFill/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43720" y="5045040"/>
            <a:ext cx="549360" cy="182520"/>
          </a:xfrm>
          <a:prstGeom prst="rect">
            <a:avLst/>
          </a:prstGeom>
          <a:noFill/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80280" y="5288040"/>
            <a:ext cx="822240" cy="183960"/>
          </a:xfrm>
          <a:prstGeom prst="rect">
            <a:avLst/>
          </a:prstGeom>
          <a:noFill/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57760" y="3216240"/>
            <a:ext cx="3894120" cy="2430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2320" y="3948120"/>
            <a:ext cx="1974600" cy="158436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Meta-e-large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152520" cy="3531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98400" y="1905120"/>
            <a:ext cx="7607520" cy="703800"/>
          </a:xfrm>
          <a:prstGeom prst="rect">
            <a:avLst/>
          </a:prstGeom>
          <a:gradFill rotWithShape="0">
            <a:gsLst>
              <a:gs pos="0">
                <a:srgbClr val="f1e2a5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7bb4"/>
                </a:solidFill>
                <a:latin typeface="Arial"/>
              </a:rPr>
              <a:t>1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duce the need for manual post-processing of scanned cont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590920"/>
            <a:ext cx="7618320" cy="703800"/>
          </a:xfrm>
          <a:prstGeom prst="rect">
            <a:avLst/>
          </a:prstGeom>
          <a:gradFill rotWithShape="0">
            <a:gsLst>
              <a:gs pos="0">
                <a:srgbClr val="f1e2a5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7bb4"/>
                </a:solidFill>
                <a:latin typeface="Arial"/>
              </a:rPr>
              <a:t>2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duce a rich output, with metadata on all levels: administrative, structural and format meta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276720"/>
            <a:ext cx="7618320" cy="398880"/>
          </a:xfrm>
          <a:prstGeom prst="rect">
            <a:avLst/>
          </a:prstGeom>
          <a:gradFill rotWithShape="0">
            <a:gsLst>
              <a:gs pos="0">
                <a:srgbClr val="f1e2a5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7bb4"/>
                </a:solidFill>
                <a:latin typeface="Arial"/>
              </a:rPr>
              <a:t>3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fer new possibilities for successful long-term preserv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4038480"/>
            <a:ext cx="7618320" cy="398880"/>
          </a:xfrm>
          <a:prstGeom prst="rect">
            <a:avLst/>
          </a:prstGeom>
          <a:gradFill rotWithShape="0">
            <a:gsLst>
              <a:gs pos="0">
                <a:srgbClr val="f1e2a5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7bb4"/>
                </a:solidFill>
                <a:latin typeface="Arial"/>
              </a:rPr>
              <a:t>5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lective and distributed correction of OCR‘d cont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657600"/>
            <a:ext cx="7620120" cy="398880"/>
          </a:xfrm>
          <a:prstGeom prst="rect">
            <a:avLst/>
          </a:prstGeom>
          <a:gradFill rotWithShape="0">
            <a:gsLst>
              <a:gs pos="0">
                <a:srgbClr val="f1e2a5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7bb4"/>
                </a:solidFill>
                <a:latin typeface="Arial"/>
              </a:rPr>
              <a:t>4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w ways to enhance access, re-use and multi-versio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419720"/>
            <a:ext cx="7618320" cy="1167480"/>
          </a:xfrm>
          <a:prstGeom prst="rect">
            <a:avLst/>
          </a:prstGeom>
          <a:gradFill rotWithShape="0">
            <a:gsLst>
              <a:gs pos="0">
                <a:srgbClr val="f1e2a5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7bb4"/>
                </a:solidFill>
                <a:latin typeface="Arial"/>
              </a:rPr>
              <a:t>6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nefits for the visually disabled and also in scenarios of functional dis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e6ca52"/>
                </a:solidFill>
                <a:latin typeface="Arial"/>
              </a:rPr>
              <a:t>European Metadata Initiatives: </a:t>
            </a:r>
            <a:endParaRPr b="1" lang="en-US" sz="3200" spc="-1" strike="noStrike">
              <a:solidFill>
                <a:srgbClr val="667bb4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e6ca52"/>
                </a:solidFill>
                <a:latin typeface="Arial"/>
              </a:rPr>
              <a:t>The METAe Metadata Engine</a:t>
            </a:r>
            <a:endParaRPr b="1" lang="en-US" sz="3200" spc="-1" strike="noStrike">
              <a:solidFill>
                <a:srgbClr val="667bb4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1562040" y="4419720"/>
            <a:ext cx="6045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6ca52"/>
                </a:solidFill>
                <a:latin typeface="Arial"/>
              </a:rPr>
              <a:t>Simon T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6ca52"/>
                </a:solidFill>
                <a:latin typeface="Arial"/>
              </a:rPr>
              <a:t>Higher Education Digitisation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6ca52"/>
                </a:solidFill>
                <a:latin typeface="Arial"/>
              </a:rPr>
              <a:t>Email: heds@herts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6ca52"/>
                </a:solidFill>
                <a:latin typeface="Arial"/>
              </a:rPr>
              <a:t>http://heds.herts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HEDS%20logo_inner%20shadow" descr=""/>
          <p:cNvPicPr/>
          <p:nvPr/>
        </p:nvPicPr>
        <p:blipFill>
          <a:blip r:embed="rId2"/>
          <a:stretch/>
        </p:blipFill>
        <p:spPr>
          <a:xfrm>
            <a:off x="2286000" y="1295280"/>
            <a:ext cx="4657680" cy="12891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gradFill rotWithShape="0">
            <a:gsLst>
              <a:gs pos="0">
                <a:srgbClr val="f4eabe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ntroduction to HE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Current metadata contexts in Europ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METAe - The Metadata Engine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ct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scription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HEDS%20logo_inner%20shadow" descr=""/>
          <p:cNvPicPr/>
          <p:nvPr/>
        </p:nvPicPr>
        <p:blipFill>
          <a:blip r:embed="rId4"/>
          <a:stretch/>
        </p:blipFill>
        <p:spPr>
          <a:xfrm>
            <a:off x="6858000" y="6248520"/>
            <a:ext cx="1800360" cy="447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762120"/>
            <a:ext cx="8229600" cy="703440"/>
          </a:xfrm>
          <a:prstGeom prst="rect">
            <a:avLst/>
          </a:prstGeom>
          <a:gradFill rotWithShape="0">
            <a:gsLst>
              <a:gs pos="0">
                <a:srgbClr val="dfe2ed"/>
              </a:gs>
              <a:gs pos="100000">
                <a:srgbClr val="4f64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6ca52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624852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on Tann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 http://heds.herts.ac.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52680"/>
          </a:xfrm>
          <a:prstGeom prst="rect">
            <a:avLst/>
          </a:prstGeom>
          <a:gradFill rotWithShape="0">
            <a:gsLst>
              <a:gs pos="0">
                <a:srgbClr val="f4eabe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ent project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keying and tagging 35 million characters in Anthr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ntury Trade 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tish newsreel scripts from the 1940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parencies - artwork, manuscripts, stained g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otographic prints and postcards - local history col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icrofil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manuscripts, political pamph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nsultancy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ritish Library, Oxford University, New Opportunities Fund applic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HEDS%20logo_inner%20shadow" descr=""/>
          <p:cNvPicPr/>
          <p:nvPr/>
        </p:nvPicPr>
        <p:blipFill>
          <a:blip r:embed="rId2"/>
          <a:stretch/>
        </p:blipFill>
        <p:spPr>
          <a:xfrm>
            <a:off x="6858000" y="6248520"/>
            <a:ext cx="1800360" cy="447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762120"/>
            <a:ext cx="8229600" cy="703440"/>
          </a:xfrm>
          <a:prstGeom prst="rect">
            <a:avLst/>
          </a:prstGeom>
          <a:gradFill rotWithShape="0">
            <a:gsLst>
              <a:gs pos="0">
                <a:srgbClr val="dfe2ed"/>
              </a:gs>
              <a:gs pos="100000">
                <a:srgbClr val="4f64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6ca52"/>
                </a:solidFill>
                <a:latin typeface="Arial"/>
              </a:rPr>
              <a:t>Introduction to H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624852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on Tann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 http://heds.herts.ac.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8229600" cy="1295280"/>
          </a:xfrm>
          <a:prstGeom prst="rect">
            <a:avLst/>
          </a:prstGeom>
          <a:gradFill rotWithShape="0">
            <a:gsLst>
              <a:gs pos="0">
                <a:srgbClr val="f4eabe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DS provides advice, consultancy and a complete production service for digitization and digital library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gradFill rotWithShape="0">
            <a:gsLst>
              <a:gs pos="0">
                <a:srgbClr val="f4eabe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SCHEMAS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orum for Metadata Schema Implemen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schemas-forum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MAS will inform schema implementers            about the status and proper use of new and emerging metadata standards. The project will support development of good-practice guidelines for the use of standards in local implementations. It will investigate how metadata registries can support these aims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HEDS%20logo_inner%20shadow" descr=""/>
          <p:cNvPicPr/>
          <p:nvPr/>
        </p:nvPicPr>
        <p:blipFill>
          <a:blip r:embed="rId1"/>
          <a:stretch/>
        </p:blipFill>
        <p:spPr>
          <a:xfrm>
            <a:off x="6858000" y="6248520"/>
            <a:ext cx="1800360" cy="447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" y="762120"/>
            <a:ext cx="8229600" cy="703440"/>
          </a:xfrm>
          <a:prstGeom prst="rect">
            <a:avLst/>
          </a:prstGeom>
          <a:gradFill rotWithShape="0">
            <a:gsLst>
              <a:gs pos="0">
                <a:srgbClr val="dfe2ed"/>
              </a:gs>
              <a:gs pos="100000">
                <a:srgbClr val="4f64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6ca52"/>
                </a:solidFill>
                <a:latin typeface="Arial"/>
              </a:rPr>
              <a:t>Current metadata contex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624852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on Tann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 http://heds.herts.ac.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5FP-EU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1428840" cy="468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gradFill rotWithShape="0">
            <a:gsLst>
              <a:gs pos="0">
                <a:srgbClr val="f4eabe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RSLP Collection Descri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//www.ukoln.ac.uk/metadata/rsl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d on a thorough modelling of collections and their catalogues, the project will develop a collection description metadata schema and associated syntax using the Resource Description Framework (RDF). We will develop a simple Web-based tool in order that projects can describe their collections and prototype a search service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HEDS%20logo_inner%20shadow" descr=""/>
          <p:cNvPicPr/>
          <p:nvPr/>
        </p:nvPicPr>
        <p:blipFill>
          <a:blip r:embed="rId1"/>
          <a:stretch/>
        </p:blipFill>
        <p:spPr>
          <a:xfrm>
            <a:off x="6858000" y="6248520"/>
            <a:ext cx="1800360" cy="447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762120"/>
            <a:ext cx="8229600" cy="703440"/>
          </a:xfrm>
          <a:prstGeom prst="rect">
            <a:avLst/>
          </a:prstGeom>
          <a:gradFill rotWithShape="0">
            <a:gsLst>
              <a:gs pos="0">
                <a:srgbClr val="dfe2ed"/>
              </a:gs>
              <a:gs pos="100000">
                <a:srgbClr val="4f64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6ca52"/>
                </a:solidFill>
                <a:latin typeface="Arial"/>
              </a:rPr>
              <a:t>Current metadata contex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24852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on Tann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 http://heds.herts.ac.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rslp-smlogo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1314360" cy="905040"/>
          </a:xfrm>
          <a:prstGeom prst="rect">
            <a:avLst/>
          </a:prstGeom>
          <a:ln w="0">
            <a:noFill/>
          </a:ln>
        </p:spPr>
      </p:pic>
      <p:pic>
        <p:nvPicPr>
          <p:cNvPr id="106" name="ukoln" descr=""/>
          <p:cNvPicPr/>
          <p:nvPr/>
        </p:nvPicPr>
        <p:blipFill>
          <a:blip r:embed="rId3"/>
          <a:stretch/>
        </p:blipFill>
        <p:spPr>
          <a:xfrm>
            <a:off x="7543800" y="1523880"/>
            <a:ext cx="763560" cy="885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gradFill rotWithShape="0">
            <a:gsLst>
              <a:gs pos="0">
                <a:srgbClr val="f4eabe"/>
              </a:gs>
              <a:gs pos="100000">
                <a:srgbClr val="ebd47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CEDARS: CURL Exemplars for Digital Arch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curl.ac.uk/projects/cedar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pressing need for a strategy for digital preservation… the CEDARS project aims to address the strategic, methodological and practical issues and will provide guidance for libraries in best practice for digital preservatio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DARS are identifying the descriptive metadata elements that should be gathered to maximize the continued accessibility of digital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HEDS%20logo_inner%20shadow" descr=""/>
          <p:cNvPicPr/>
          <p:nvPr/>
        </p:nvPicPr>
        <p:blipFill>
          <a:blip r:embed="rId1"/>
          <a:stretch/>
        </p:blipFill>
        <p:spPr>
          <a:xfrm>
            <a:off x="6858000" y="6248520"/>
            <a:ext cx="1800360" cy="447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762120"/>
            <a:ext cx="8229600" cy="703440"/>
          </a:xfrm>
          <a:prstGeom prst="rect">
            <a:avLst/>
          </a:prstGeom>
          <a:gradFill rotWithShape="0">
            <a:gsLst>
              <a:gs pos="0">
                <a:srgbClr val="dfe2ed"/>
              </a:gs>
              <a:gs pos="100000">
                <a:srgbClr val="4f64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6ca52"/>
                </a:solidFill>
                <a:latin typeface="Arial"/>
              </a:rPr>
              <a:t>Current metadata contex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624852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on Tann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 http://heds.herts.ac.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ca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3505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7bb4"/>
                </a:solidFill>
                <a:latin typeface="Arial"/>
              </a:rPr>
              <a:t>Presentation of an EU-project within the</a:t>
            </a:r>
            <a:br>
              <a:rPr sz="2800"/>
            </a:br>
            <a:r>
              <a:rPr b="1" lang="de-DE" sz="2800" spc="-1" strike="noStrike">
                <a:solidFill>
                  <a:srgbClr val="667bb4"/>
                </a:solidFill>
                <a:latin typeface="Arial"/>
              </a:rPr>
              <a:t>5th Framework Programme</a:t>
            </a:r>
            <a:endParaRPr b="1" lang="en-US" sz="2800" spc="-1" strike="noStrike">
              <a:solidFill>
                <a:srgbClr val="667bb4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7bb4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2669760" y="5257800"/>
            <a:ext cx="384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7bb4"/>
                </a:solidFill>
                <a:latin typeface="Times New Roman"/>
              </a:rPr>
              <a:t>http://meta-e.uibk.ac.a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5FP-EU" descr=""/>
          <p:cNvPicPr/>
          <p:nvPr/>
        </p:nvPicPr>
        <p:blipFill>
          <a:blip r:embed="rId1"/>
          <a:stretch/>
        </p:blipFill>
        <p:spPr>
          <a:xfrm>
            <a:off x="3886200" y="4648320"/>
            <a:ext cx="1428840" cy="468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jec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 the digital conversion of printed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reliable in terms of digital p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cost-effective in terms of 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attractive in terms of user-friendliness and acces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Ae will develop a software package to extensively automate and improve the generation of meta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206360"/>
            <a:ext cx="7772400" cy="5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jec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oals will be achieved by applying new technologies for character, layout and document recog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ETAe package will convert the captured information into XML doc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 files serve as a basis for various applications, such as: new XML search engines, navigation tools, electronic books, audio books, or the automated production of HTML, XHTML, PDF or PS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09:54:18Z</dcterms:created>
  <dc:creator>c10820</dc:creator>
  <dc:description/>
  <dc:language>en-US</dc:language>
  <cp:lastModifiedBy>Rebecca Sholes</cp:lastModifiedBy>
  <cp:lastPrinted>2000-11-30T22:37:20Z</cp:lastPrinted>
  <dcterms:modified xsi:type="dcterms:W3CDTF">2000-11-30T22:37:38Z</dcterms:modified>
  <cp:revision>24</cp:revision>
  <dc:subject/>
  <dc:title>PowerPoint-Präsentation</dc:title>
</cp:coreProperties>
</file>